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AA7-033F-4A1B-9D65-DBA4551B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31A-50EB-4F53-A799-7AE272A6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922-2D9E-4CC8-B051-FD881F19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522-D960-42BC-9805-0FD1F4CC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0C24-AC79-416F-9242-A0B86D11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7ABB-10FD-4C8D-A92A-4F449281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6DF4-F988-4079-8338-73090998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1A01-B208-4A35-BC0A-2661715B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56DF-D0D5-4EAE-9D83-8A6F1DDF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9EAB-8E6E-46FA-82FF-90DC2F1B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B625-EEF3-41C3-95FD-6FF9C6C5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82D-E291-4393-A48D-80C1B3FC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492D-B91C-44E6-9043-AFC6DB4F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1CAE-198A-4DC4-91B2-A7DE1D19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5F24-BF6A-480E-BD08-AF305FAD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5F35-E162-4CEE-AB93-B10BD9EB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21B7-47A9-4E16-9B8B-BD1249C1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B0B-B420-4A75-ACED-3538AD3A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0301-E064-47F0-81A3-2CB0E1F5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F3B-10FA-4318-BD6D-AA297D98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1C1-53E3-40E9-85A1-988E9494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88E-A7A9-4089-B94E-F40976C9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9EC-5E24-437F-BCB1-E3E00B36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4BA-F565-4DD1-9F3F-D9EAFEEC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8856-5990-476F-8302-3BA81F38746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46D7-AC47-4243-937A-0DE6BF93B2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lgebra Equation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895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3124080" y="2895480"/>
            <a:ext cx="2286000" cy="685800"/>
          </a:xfrm>
          <a:custGeom>
            <a:avLst/>
            <a:gdLst>
              <a:gd name="textAreaLeft" fmla="*/ 75960 w 2286000"/>
              <a:gd name="textAreaRight" fmla="*/ 2210040 w 2286000"/>
              <a:gd name="textAreaTop" fmla="*/ 75960 h 685800"/>
              <a:gd name="textAreaBottom" fmla="*/ 60984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574" y="2400"/>
                </a:lnTo>
                <a:lnTo>
                  <a:pt x="2400" y="2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574" y="19200"/>
                </a:lnTo>
                <a:lnTo>
                  <a:pt x="69574" y="2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400" y="19200"/>
                </a:lnTo>
                <a:lnTo>
                  <a:pt x="69574" y="19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400" y="2400"/>
                </a:lnTo>
                <a:lnTo>
                  <a:pt x="2400" y="19200"/>
                </a:lnTo>
                <a:close/>
              </a:path>
            </a:pathLst>
          </a:custGeom>
          <a:gradFill rotWithShape="0">
            <a:gsLst>
              <a:gs pos="0">
                <a:srgbClr val="0fffbc">
                  <a:alpha val="75294"/>
                </a:srgbClr>
              </a:gs>
              <a:gs pos="50000">
                <a:srgbClr val="078663">
                  <a:alpha val="75294"/>
                </a:srgbClr>
              </a:gs>
              <a:gs pos="100000">
                <a:srgbClr val="0fffbc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Equ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3124080" y="3657600"/>
            <a:ext cx="2286000" cy="685800"/>
          </a:xfrm>
          <a:custGeom>
            <a:avLst/>
            <a:gdLst>
              <a:gd name="textAreaLeft" fmla="*/ 68040 w 2286000"/>
              <a:gd name="textAreaRight" fmla="*/ 2217960 w 2286000"/>
              <a:gd name="textAreaTop" fmla="*/ 68040 h 685800"/>
              <a:gd name="textAreaBottom" fmla="*/ 61776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824" y="2150"/>
                </a:lnTo>
                <a:lnTo>
                  <a:pt x="2150" y="215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824" y="19450"/>
                </a:lnTo>
                <a:lnTo>
                  <a:pt x="69824" y="215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69824" y="1945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ffb706">
                  <a:alpha val="75294"/>
                </a:srgbClr>
              </a:gs>
              <a:gs pos="50000">
                <a:srgbClr val="8b6403">
                  <a:alpha val="75294"/>
                </a:srgbClr>
              </a:gs>
              <a:gs pos="100000">
                <a:srgbClr val="ffb70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enthe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5486400" y="2895480"/>
            <a:ext cx="2286000" cy="685800"/>
          </a:xfrm>
          <a:custGeom>
            <a:avLst/>
            <a:gdLst>
              <a:gd name="textAreaLeft" fmla="*/ 79200 w 2286000"/>
              <a:gd name="textAreaRight" fmla="*/ 2206800 w 2286000"/>
              <a:gd name="textAreaTop" fmla="*/ 79200 h 685800"/>
              <a:gd name="textAreaBottom" fmla="*/ 60660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474" y="2500"/>
                </a:lnTo>
                <a:lnTo>
                  <a:pt x="2500" y="25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474" y="19100"/>
                </a:lnTo>
                <a:lnTo>
                  <a:pt x="69474" y="25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500" y="19100"/>
                </a:lnTo>
                <a:lnTo>
                  <a:pt x="69474" y="191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500" y="2500"/>
                </a:lnTo>
                <a:lnTo>
                  <a:pt x="2500" y="19100"/>
                </a:lnTo>
                <a:close/>
              </a:path>
            </a:pathLst>
          </a:custGeom>
          <a:gradFill rotWithShape="0">
            <a:gsLst>
              <a:gs pos="0">
                <a:srgbClr val="fff966">
                  <a:alpha val="75294"/>
                </a:srgbClr>
              </a:gs>
              <a:gs pos="50000">
                <a:srgbClr val="75722f">
                  <a:alpha val="75294"/>
                </a:srgbClr>
              </a:gs>
              <a:gs pos="100000">
                <a:srgbClr val="fff96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Equ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5486400" y="365760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5294"/>
                </a:srgbClr>
              </a:gs>
              <a:gs pos="50000">
                <a:srgbClr val="757575">
                  <a:alpha val="75294"/>
                </a:srgbClr>
              </a:gs>
              <a:gs pos="100000">
                <a:srgbClr val="fffff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hes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1294920"/>
            <a:ext cx="3352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to Solv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743200"/>
            <a:ext cx="23619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+4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2819520"/>
            <a:ext cx="6094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4572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=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257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   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9810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x-5=1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274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x-5=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32767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5  +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895480"/>
            <a:ext cx="60984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495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x=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029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  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4100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17184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680" y="5257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447560" y="5257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54100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=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4191120"/>
            <a:ext cx="1295640" cy="520560"/>
          </a:xfrm>
          <a:prstGeom prst="borderCallout1">
            <a:avLst>
              <a:gd name="adj1" fmla="val 18750"/>
              <a:gd name="adj2" fmla="val -8333"/>
              <a:gd name="adj3" fmla="val 197231"/>
              <a:gd name="adj4" fmla="val -6041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343400"/>
            <a:ext cx="5335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70760" y="2133720"/>
            <a:ext cx="2073240" cy="1800360"/>
          </a:xfrm>
          <a:prstGeom prst="borderCallout1">
            <a:avLst>
              <a:gd name="adj1" fmla="val 18750"/>
              <a:gd name="adj2" fmla="val -8333"/>
              <a:gd name="adj3" fmla="val 84023"/>
              <a:gd name="adj4" fmla="val -22847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 numbers without a variable(x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133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+4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76320" y="1066680"/>
            <a:ext cx="990360" cy="457200"/>
          </a:xfrm>
          <a:custGeom>
            <a:avLst/>
            <a:gdLst>
              <a:gd name="textAreaLeft" fmla="*/ 43560 w 990360"/>
              <a:gd name="textAreaRight" fmla="*/ 946800 w 990360"/>
              <a:gd name="textAreaTop" fmla="*/ 43560 h 457200"/>
              <a:gd name="textAreaBottom" fmla="*/ 41364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4712" y="2057"/>
                </a:lnTo>
                <a:lnTo>
                  <a:pt x="2057" y="2057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4712" y="19543"/>
                </a:lnTo>
                <a:lnTo>
                  <a:pt x="44712" y="2057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2057" y="19543"/>
                </a:lnTo>
                <a:lnTo>
                  <a:pt x="44712" y="19543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2057" y="2057"/>
                </a:lnTo>
                <a:lnTo>
                  <a:pt x="2057" y="19543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6858000" y="5334120"/>
            <a:ext cx="2209680" cy="685800"/>
          </a:xfrm>
          <a:custGeom>
            <a:avLst/>
            <a:gdLst>
              <a:gd name="textAreaLeft" fmla="*/ 79200 w 2209680"/>
              <a:gd name="textAreaRight" fmla="*/ 2130480 w 2209680"/>
              <a:gd name="textAreaTop" fmla="*/ 79200 h 685800"/>
              <a:gd name="textAreaBottom" fmla="*/ 606600 h 685800"/>
            </a:gdLst>
            <a:ahLst/>
            <a:rect l="textAreaLeft" t="textAreaTop" r="textAreaRight" b="textAreaBottom"/>
            <a:pathLst>
              <a:path w="69571" h="21600">
                <a:moveTo>
                  <a:pt x="0" y="0"/>
                </a:moveTo>
                <a:lnTo>
                  <a:pt x="69571" y="0"/>
                </a:lnTo>
                <a:lnTo>
                  <a:pt x="69571" y="21600"/>
                </a:lnTo>
                <a:lnTo>
                  <a:pt x="0" y="21600"/>
                </a:lnTo>
                <a:close/>
              </a:path>
              <a:path fill="lightenLess" w="69571" h="21600">
                <a:moveTo>
                  <a:pt x="0" y="0"/>
                </a:moveTo>
                <a:lnTo>
                  <a:pt x="69571" y="0"/>
                </a:lnTo>
                <a:lnTo>
                  <a:pt x="67071" y="2500"/>
                </a:lnTo>
                <a:lnTo>
                  <a:pt x="2500" y="2500"/>
                </a:lnTo>
                <a:close/>
              </a:path>
              <a:path fill="darken" w="69571" h="21600">
                <a:moveTo>
                  <a:pt x="69571" y="0"/>
                </a:moveTo>
                <a:lnTo>
                  <a:pt x="69571" y="21600"/>
                </a:lnTo>
                <a:lnTo>
                  <a:pt x="67071" y="19100"/>
                </a:lnTo>
                <a:lnTo>
                  <a:pt x="67071" y="2500"/>
                </a:lnTo>
                <a:close/>
              </a:path>
              <a:path fill="darkenLess" w="69571" h="21600">
                <a:moveTo>
                  <a:pt x="69571" y="21600"/>
                </a:moveTo>
                <a:lnTo>
                  <a:pt x="0" y="21600"/>
                </a:lnTo>
                <a:lnTo>
                  <a:pt x="2500" y="19100"/>
                </a:lnTo>
                <a:lnTo>
                  <a:pt x="67071" y="19100"/>
                </a:lnTo>
                <a:close/>
              </a:path>
              <a:path fill="lighten" w="69571" h="21600">
                <a:moveTo>
                  <a:pt x="0" y="21600"/>
                </a:moveTo>
                <a:lnTo>
                  <a:pt x="0" y="0"/>
                </a:lnTo>
                <a:lnTo>
                  <a:pt x="2500" y="2500"/>
                </a:lnTo>
                <a:lnTo>
                  <a:pt x="2500" y="19100"/>
                </a:lnTo>
                <a:close/>
              </a:path>
            </a:pathLst>
          </a:custGeom>
          <a:gradFill rotWithShape="0">
            <a:gsLst>
              <a:gs pos="0">
                <a:srgbClr val="fff966">
                  <a:alpha val="75294"/>
                </a:srgbClr>
              </a:gs>
              <a:gs pos="50000">
                <a:srgbClr val="75722f">
                  <a:alpha val="75294"/>
                </a:srgbClr>
              </a:gs>
              <a:gs pos="100000">
                <a:srgbClr val="fff96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Equ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3464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4x+6=4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23464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9x+14=3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200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5x+2=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31240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6x+5=4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4956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7x-3=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44956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3x-9=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412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5x-4=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5334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9x-5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76320" y="1066680"/>
            <a:ext cx="990360" cy="457200"/>
          </a:xfrm>
          <a:custGeom>
            <a:avLst/>
            <a:gdLst>
              <a:gd name="textAreaLeft" fmla="*/ 43560 w 990360"/>
              <a:gd name="textAreaRight" fmla="*/ 946800 w 990360"/>
              <a:gd name="textAreaTop" fmla="*/ 43560 h 457200"/>
              <a:gd name="textAreaBottom" fmla="*/ 41364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4712" y="2057"/>
                </a:lnTo>
                <a:lnTo>
                  <a:pt x="2057" y="2057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4712" y="19543"/>
                </a:lnTo>
                <a:lnTo>
                  <a:pt x="44712" y="2057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2057" y="19543"/>
                </a:lnTo>
                <a:lnTo>
                  <a:pt x="44712" y="19543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2057" y="2057"/>
                </a:lnTo>
                <a:lnTo>
                  <a:pt x="2057" y="19543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0" y="1600200"/>
            <a:ext cx="1017360" cy="609480"/>
          </a:xfrm>
          <a:custGeom>
            <a:avLst/>
            <a:gdLst>
              <a:gd name="textAreaLeft" fmla="*/ 61920 w 1017360"/>
              <a:gd name="textAreaRight" fmla="*/ 955440 w 1017360"/>
              <a:gd name="textAreaTop" fmla="*/ 61920 h 609480"/>
              <a:gd name="textAreaBottom" fmla="*/ 547560 h 609480"/>
            </a:gdLst>
            <a:ahLst/>
            <a:rect l="textAreaLeft" t="textAreaTop" r="textAreaRight" b="textAreaBottom"/>
            <a:pathLst>
              <a:path w="36047" h="21600">
                <a:moveTo>
                  <a:pt x="0" y="0"/>
                </a:moveTo>
                <a:lnTo>
                  <a:pt x="36047" y="0"/>
                </a:lnTo>
                <a:lnTo>
                  <a:pt x="36047" y="21600"/>
                </a:lnTo>
                <a:lnTo>
                  <a:pt x="0" y="21600"/>
                </a:lnTo>
                <a:close/>
              </a:path>
              <a:path fill="lightenLess" w="36047" h="21600">
                <a:moveTo>
                  <a:pt x="0" y="0"/>
                </a:moveTo>
                <a:lnTo>
                  <a:pt x="36047" y="0"/>
                </a:lnTo>
                <a:lnTo>
                  <a:pt x="33853" y="2194"/>
                </a:lnTo>
                <a:lnTo>
                  <a:pt x="2194" y="2194"/>
                </a:lnTo>
                <a:close/>
              </a:path>
              <a:path fill="darken" w="36047" h="21600">
                <a:moveTo>
                  <a:pt x="36047" y="0"/>
                </a:moveTo>
                <a:lnTo>
                  <a:pt x="36047" y="21600"/>
                </a:lnTo>
                <a:lnTo>
                  <a:pt x="33853" y="19406"/>
                </a:lnTo>
                <a:lnTo>
                  <a:pt x="33853" y="2194"/>
                </a:lnTo>
                <a:close/>
              </a:path>
              <a:path fill="darkenLess" w="36047" h="21600">
                <a:moveTo>
                  <a:pt x="36047" y="21600"/>
                </a:moveTo>
                <a:lnTo>
                  <a:pt x="0" y="21600"/>
                </a:lnTo>
                <a:lnTo>
                  <a:pt x="2194" y="19406"/>
                </a:lnTo>
                <a:lnTo>
                  <a:pt x="33853" y="19406"/>
                </a:lnTo>
                <a:close/>
              </a:path>
              <a:path fill="lighten" w="36047" h="21600">
                <a:moveTo>
                  <a:pt x="0" y="21600"/>
                </a:moveTo>
                <a:lnTo>
                  <a:pt x="0" y="0"/>
                </a:lnTo>
                <a:lnTo>
                  <a:pt x="2194" y="2194"/>
                </a:lnTo>
                <a:lnTo>
                  <a:pt x="2194" y="19406"/>
                </a:lnTo>
                <a:close/>
              </a:path>
            </a:pathLst>
          </a:custGeom>
          <a:gradFill rotWithShape="0">
            <a:gsLst>
              <a:gs pos="0">
                <a:srgbClr val="2552ba">
                  <a:alpha val="75294"/>
                </a:srgbClr>
              </a:gs>
              <a:gs pos="50000">
                <a:srgbClr val="112555">
                  <a:alpha val="75294"/>
                </a:srgbClr>
              </a:gs>
              <a:gs pos="100000">
                <a:srgbClr val="2552ba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1066680"/>
            <a:ext cx="1652760" cy="685800"/>
          </a:xfrm>
          <a:custGeom>
            <a:avLst/>
            <a:gdLst>
              <a:gd name="textAreaLeft" fmla="*/ 68040 w 1652760"/>
              <a:gd name="textAreaRight" fmla="*/ 1584720 w 1652760"/>
              <a:gd name="textAreaTop" fmla="*/ 68040 h 685800"/>
              <a:gd name="textAreaBottom" fmla="*/ 617760 h 685800"/>
            </a:gdLst>
            <a:ahLst/>
            <a:rect l="textAreaLeft" t="textAreaTop" r="textAreaRight" b="textAreaBottom"/>
            <a:pathLst>
              <a:path w="52039" h="21600">
                <a:moveTo>
                  <a:pt x="0" y="0"/>
                </a:moveTo>
                <a:lnTo>
                  <a:pt x="52039" y="0"/>
                </a:lnTo>
                <a:lnTo>
                  <a:pt x="52039" y="21600"/>
                </a:lnTo>
                <a:lnTo>
                  <a:pt x="0" y="21600"/>
                </a:lnTo>
                <a:close/>
              </a:path>
              <a:path fill="lightenLess" w="52039" h="21600">
                <a:moveTo>
                  <a:pt x="0" y="0"/>
                </a:moveTo>
                <a:lnTo>
                  <a:pt x="52039" y="0"/>
                </a:lnTo>
                <a:lnTo>
                  <a:pt x="49890" y="2150"/>
                </a:lnTo>
                <a:lnTo>
                  <a:pt x="2150" y="2150"/>
                </a:lnTo>
                <a:close/>
              </a:path>
              <a:path fill="darken" w="52039" h="21600">
                <a:moveTo>
                  <a:pt x="52039" y="0"/>
                </a:moveTo>
                <a:lnTo>
                  <a:pt x="52039" y="21600"/>
                </a:lnTo>
                <a:lnTo>
                  <a:pt x="49890" y="19450"/>
                </a:lnTo>
                <a:lnTo>
                  <a:pt x="49890" y="2150"/>
                </a:lnTo>
                <a:close/>
              </a:path>
              <a:path fill="darkenLess" w="52039" h="21600">
                <a:moveTo>
                  <a:pt x="52039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49890" y="19450"/>
                </a:lnTo>
                <a:close/>
              </a:path>
              <a:path fill="lighten" w="52039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2cbf0f">
                  <a:alpha val="75294"/>
                </a:srgbClr>
              </a:gs>
              <a:gs pos="50000">
                <a:srgbClr val="145806">
                  <a:alpha val="75294"/>
                </a:srgbClr>
              </a:gs>
              <a:gs pos="100000">
                <a:srgbClr val="2cbf0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H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Sol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Parenthesi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590920"/>
            <a:ext cx="2438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4(x+5)=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276720"/>
            <a:ext cx="24382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4(x+5)=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52360" y="3868560"/>
            <a:ext cx="489240" cy="147960"/>
          </a:xfrm>
          <a:custGeom>
            <a:avLst/>
            <a:gdLst/>
            <a:ahLst/>
            <a:rect l="l" t="t" r="r" b="b"/>
            <a:pathLst>
              <a:path w="308" h="93">
                <a:moveTo>
                  <a:pt x="0" y="0"/>
                </a:moveTo>
                <a:cubicBezTo>
                  <a:pt x="6" y="18"/>
                  <a:pt x="2" y="43"/>
                  <a:pt x="18" y="55"/>
                </a:cubicBezTo>
                <a:cubicBezTo>
                  <a:pt x="50" y="77"/>
                  <a:pt x="130" y="93"/>
                  <a:pt x="130" y="93"/>
                </a:cubicBezTo>
                <a:cubicBezTo>
                  <a:pt x="167" y="80"/>
                  <a:pt x="203" y="67"/>
                  <a:pt x="241" y="55"/>
                </a:cubicBezTo>
                <a:cubicBezTo>
                  <a:pt x="308" y="32"/>
                  <a:pt x="297" y="57"/>
                  <a:pt x="29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52360" y="3868560"/>
            <a:ext cx="944640" cy="354240"/>
          </a:xfrm>
          <a:custGeom>
            <a:avLst/>
            <a:gdLst/>
            <a:ahLst/>
            <a:rect l="l" t="t" r="r" b="b"/>
            <a:pathLst>
              <a:path w="595" h="223">
                <a:moveTo>
                  <a:pt x="0" y="0"/>
                </a:moveTo>
                <a:cubicBezTo>
                  <a:pt x="81" y="122"/>
                  <a:pt x="86" y="176"/>
                  <a:pt x="223" y="223"/>
                </a:cubicBezTo>
                <a:cubicBezTo>
                  <a:pt x="244" y="220"/>
                  <a:pt x="394" y="214"/>
                  <a:pt x="446" y="186"/>
                </a:cubicBezTo>
                <a:cubicBezTo>
                  <a:pt x="485" y="164"/>
                  <a:pt x="558" y="111"/>
                  <a:pt x="558" y="111"/>
                </a:cubicBezTo>
                <a:cubicBezTo>
                  <a:pt x="580" y="41"/>
                  <a:pt x="567" y="72"/>
                  <a:pt x="595" y="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191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x+20=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0 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4267080"/>
            <a:ext cx="7621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x=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6386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56847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56865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533412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4600" y="5334120"/>
            <a:ext cx="9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2514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(x-4)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3200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(x-4)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4320" y="3749760"/>
            <a:ext cx="357480" cy="206280"/>
          </a:xfrm>
          <a:custGeom>
            <a:avLst/>
            <a:gdLst/>
            <a:ahLst/>
            <a:rect l="l" t="t" r="r" b="b"/>
            <a:pathLst>
              <a:path w="225" h="130">
                <a:moveTo>
                  <a:pt x="2" y="19"/>
                </a:moveTo>
                <a:cubicBezTo>
                  <a:pt x="8" y="43"/>
                  <a:pt x="0" y="76"/>
                  <a:pt x="20" y="93"/>
                </a:cubicBezTo>
                <a:cubicBezTo>
                  <a:pt x="49" y="118"/>
                  <a:pt x="132" y="130"/>
                  <a:pt x="132" y="130"/>
                </a:cubicBezTo>
                <a:cubicBezTo>
                  <a:pt x="216" y="102"/>
                  <a:pt x="225" y="88"/>
                  <a:pt x="225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27560" y="3808440"/>
            <a:ext cx="771480" cy="295200"/>
          </a:xfrm>
          <a:custGeom>
            <a:avLst/>
            <a:gdLst/>
            <a:ahLst/>
            <a:rect l="l" t="t" r="r" b="b"/>
            <a:pathLst>
              <a:path w="486" h="186">
                <a:moveTo>
                  <a:pt x="0" y="0"/>
                </a:moveTo>
                <a:cubicBezTo>
                  <a:pt x="32" y="99"/>
                  <a:pt x="107" y="154"/>
                  <a:pt x="204" y="186"/>
                </a:cubicBezTo>
                <a:cubicBezTo>
                  <a:pt x="205" y="185"/>
                  <a:pt x="407" y="160"/>
                  <a:pt x="428" y="149"/>
                </a:cubicBezTo>
                <a:cubicBezTo>
                  <a:pt x="447" y="137"/>
                  <a:pt x="452" y="111"/>
                  <a:pt x="465" y="93"/>
                </a:cubicBezTo>
                <a:cubicBezTo>
                  <a:pt x="486" y="25"/>
                  <a:pt x="483" y="57"/>
                  <a:pt x="483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191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x-12=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49960" y="46483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12 +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4191120"/>
            <a:ext cx="4572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5105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x=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55008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  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518148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5334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2646360"/>
            <a:ext cx="1600200" cy="1313640"/>
          </a:xfrm>
          <a:prstGeom prst="borderCallout1">
            <a:avLst>
              <a:gd name="adj1" fmla="val 18750"/>
              <a:gd name="adj2" fmla="val -8333"/>
              <a:gd name="adj3" fmla="val 55694"/>
              <a:gd name="adj4" fmla="val -13321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y to everything inside parenthe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281952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17840" y="4008600"/>
            <a:ext cx="1311480" cy="1313640"/>
          </a:xfrm>
          <a:prstGeom prst="borderCallout1">
            <a:avLst>
              <a:gd name="adj1" fmla="val 18750"/>
              <a:gd name="adj2" fmla="val -8333"/>
              <a:gd name="adj3" fmla="val 36379"/>
              <a:gd name="adj4" fmla="val -9066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rid of numbers without a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411480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2840" y="548496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60773"/>
              <a:gd name="adj4" fmla="val -16682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562720"/>
            <a:ext cx="15238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6320" y="1066680"/>
            <a:ext cx="990360" cy="457200"/>
          </a:xfrm>
          <a:custGeom>
            <a:avLst/>
            <a:gdLst>
              <a:gd name="textAreaLeft" fmla="*/ 43560 w 990360"/>
              <a:gd name="textAreaRight" fmla="*/ 946800 w 990360"/>
              <a:gd name="textAreaTop" fmla="*/ 43560 h 457200"/>
              <a:gd name="textAreaBottom" fmla="*/ 41364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4712" y="2057"/>
                </a:lnTo>
                <a:lnTo>
                  <a:pt x="2057" y="2057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4712" y="19543"/>
                </a:lnTo>
                <a:lnTo>
                  <a:pt x="44712" y="2057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2057" y="19543"/>
                </a:lnTo>
                <a:lnTo>
                  <a:pt x="44712" y="19543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2057" y="2057"/>
                </a:lnTo>
                <a:lnTo>
                  <a:pt x="2057" y="19543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7162920" y="1066680"/>
            <a:ext cx="1981080" cy="609840"/>
          </a:xfrm>
          <a:custGeom>
            <a:avLst/>
            <a:gdLst>
              <a:gd name="textAreaLeft" fmla="*/ 36360 w 1981080"/>
              <a:gd name="textAreaRight" fmla="*/ 1944720 w 1981080"/>
              <a:gd name="textAreaTop" fmla="*/ 36360 h 609840"/>
              <a:gd name="textAreaBottom" fmla="*/ 57348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846" y="1294"/>
                </a:lnTo>
                <a:lnTo>
                  <a:pt x="1294" y="1294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846" y="20306"/>
                </a:lnTo>
                <a:lnTo>
                  <a:pt x="68846" y="1294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294" y="20306"/>
                </a:lnTo>
                <a:lnTo>
                  <a:pt x="68846" y="20306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294" y="1294"/>
                </a:lnTo>
                <a:lnTo>
                  <a:pt x="1294" y="203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5294"/>
                </a:srgbClr>
              </a:gs>
              <a:gs pos="50000">
                <a:srgbClr val="757575">
                  <a:alpha val="75294"/>
                </a:srgbClr>
              </a:gs>
              <a:gs pos="100000">
                <a:srgbClr val="fffff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hes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(Parenthesis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3(x+5)=27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09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5(x+7)=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9(x+2)=8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3733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5(x-6)=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952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4(x-4)=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4952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2(-9+x)=4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76320" y="1066680"/>
            <a:ext cx="990360" cy="457200"/>
          </a:xfrm>
          <a:custGeom>
            <a:avLst/>
            <a:gdLst>
              <a:gd name="textAreaLeft" fmla="*/ 43560 w 990360"/>
              <a:gd name="textAreaRight" fmla="*/ 946800 w 990360"/>
              <a:gd name="textAreaTop" fmla="*/ 43560 h 457200"/>
              <a:gd name="textAreaBottom" fmla="*/ 41364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4712" y="2057"/>
                </a:lnTo>
                <a:lnTo>
                  <a:pt x="2057" y="2057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4712" y="19543"/>
                </a:lnTo>
                <a:lnTo>
                  <a:pt x="44712" y="2057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2057" y="19543"/>
                </a:lnTo>
                <a:lnTo>
                  <a:pt x="44712" y="19543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2057" y="2057"/>
                </a:lnTo>
                <a:lnTo>
                  <a:pt x="2057" y="19543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7238880" y="990720"/>
            <a:ext cx="1752840" cy="533160"/>
          </a:xfrm>
          <a:custGeom>
            <a:avLst/>
            <a:gdLst>
              <a:gd name="textAreaLeft" fmla="*/ 52920 w 1752840"/>
              <a:gd name="textAreaRight" fmla="*/ 1699920 w 1752840"/>
              <a:gd name="textAreaTop" fmla="*/ 52920 h 533160"/>
              <a:gd name="textAreaBottom" fmla="*/ 480240 h 533160"/>
            </a:gdLst>
            <a:ahLst/>
            <a:rect l="textAreaLeft" t="textAreaTop" r="textAreaRight" b="textAreaBottom"/>
            <a:pathLst>
              <a:path w="70980" h="21600">
                <a:moveTo>
                  <a:pt x="0" y="0"/>
                </a:moveTo>
                <a:lnTo>
                  <a:pt x="70980" y="0"/>
                </a:lnTo>
                <a:lnTo>
                  <a:pt x="70980" y="21600"/>
                </a:lnTo>
                <a:lnTo>
                  <a:pt x="0" y="21600"/>
                </a:lnTo>
                <a:close/>
              </a:path>
              <a:path fill="lightenLess" w="70980" h="21600">
                <a:moveTo>
                  <a:pt x="0" y="0"/>
                </a:moveTo>
                <a:lnTo>
                  <a:pt x="70980" y="0"/>
                </a:lnTo>
                <a:lnTo>
                  <a:pt x="68830" y="2150"/>
                </a:lnTo>
                <a:lnTo>
                  <a:pt x="2150" y="2150"/>
                </a:lnTo>
                <a:close/>
              </a:path>
              <a:path fill="darken" w="70980" h="21600">
                <a:moveTo>
                  <a:pt x="70980" y="0"/>
                </a:moveTo>
                <a:lnTo>
                  <a:pt x="70980" y="21600"/>
                </a:lnTo>
                <a:lnTo>
                  <a:pt x="68830" y="19450"/>
                </a:lnTo>
                <a:lnTo>
                  <a:pt x="68830" y="2150"/>
                </a:lnTo>
                <a:close/>
              </a:path>
              <a:path fill="darkenLess" w="70980" h="21600">
                <a:moveTo>
                  <a:pt x="70980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68830" y="19450"/>
                </a:lnTo>
                <a:close/>
              </a:path>
              <a:path fill="lighten" w="70980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ffb706">
                  <a:alpha val="75294"/>
                </a:srgbClr>
              </a:gs>
              <a:gs pos="50000">
                <a:srgbClr val="8b6403">
                  <a:alpha val="75294"/>
                </a:srgbClr>
              </a:gs>
              <a:gs pos="100000">
                <a:srgbClr val="ffb70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enthe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0" y="1600200"/>
            <a:ext cx="1017360" cy="762120"/>
          </a:xfrm>
          <a:custGeom>
            <a:avLst/>
            <a:gdLst>
              <a:gd name="textAreaLeft" fmla="*/ 72720 w 1017360"/>
              <a:gd name="textAreaRight" fmla="*/ 944640 w 1017360"/>
              <a:gd name="textAreaTop" fmla="*/ 72720 h 762120"/>
              <a:gd name="textAreaBottom" fmla="*/ 689400 h 762120"/>
            </a:gdLst>
            <a:ahLst/>
            <a:rect l="textAreaLeft" t="textAreaTop" r="textAreaRight" b="textAreaBottom"/>
            <a:pathLst>
              <a:path w="28831" h="21600">
                <a:moveTo>
                  <a:pt x="0" y="0"/>
                </a:moveTo>
                <a:lnTo>
                  <a:pt x="28831" y="0"/>
                </a:lnTo>
                <a:lnTo>
                  <a:pt x="28831" y="21600"/>
                </a:lnTo>
                <a:lnTo>
                  <a:pt x="0" y="21600"/>
                </a:lnTo>
                <a:close/>
              </a:path>
              <a:path fill="lightenLess" w="28831" h="21600">
                <a:moveTo>
                  <a:pt x="0" y="0"/>
                </a:moveTo>
                <a:lnTo>
                  <a:pt x="28831" y="0"/>
                </a:lnTo>
                <a:lnTo>
                  <a:pt x="26761" y="2070"/>
                </a:lnTo>
                <a:lnTo>
                  <a:pt x="2070" y="2070"/>
                </a:lnTo>
                <a:close/>
              </a:path>
              <a:path fill="darken" w="28831" h="21600">
                <a:moveTo>
                  <a:pt x="28831" y="0"/>
                </a:moveTo>
                <a:lnTo>
                  <a:pt x="28831" y="21600"/>
                </a:lnTo>
                <a:lnTo>
                  <a:pt x="26761" y="19530"/>
                </a:lnTo>
                <a:lnTo>
                  <a:pt x="26761" y="2070"/>
                </a:lnTo>
                <a:close/>
              </a:path>
              <a:path fill="darkenLess" w="28831" h="21600">
                <a:moveTo>
                  <a:pt x="28831" y="21600"/>
                </a:moveTo>
                <a:lnTo>
                  <a:pt x="0" y="21600"/>
                </a:lnTo>
                <a:lnTo>
                  <a:pt x="2070" y="19530"/>
                </a:lnTo>
                <a:lnTo>
                  <a:pt x="26761" y="19530"/>
                </a:lnTo>
                <a:close/>
              </a:path>
              <a:path fill="lighten" w="28831" h="21600">
                <a:moveTo>
                  <a:pt x="0" y="21600"/>
                </a:moveTo>
                <a:lnTo>
                  <a:pt x="0" y="0"/>
                </a:lnTo>
                <a:lnTo>
                  <a:pt x="2070" y="2070"/>
                </a:lnTo>
                <a:lnTo>
                  <a:pt x="2070" y="19530"/>
                </a:lnTo>
                <a:close/>
              </a:path>
            </a:pathLst>
          </a:custGeom>
          <a:gradFill rotWithShape="0">
            <a:gsLst>
              <a:gs pos="0">
                <a:srgbClr val="087f12">
                  <a:alpha val="75294"/>
                </a:srgbClr>
              </a:gs>
              <a:gs pos="50000">
                <a:srgbClr val="033a08">
                  <a:alpha val="75294"/>
                </a:srgbClr>
              </a:gs>
              <a:gs pos="100000">
                <a:srgbClr val="087f12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mple Equations Answe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3092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x=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3092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3809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3809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x=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5257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5334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x=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572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44956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x=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066680"/>
            <a:ext cx="1752480" cy="838440"/>
          </a:xfrm>
          <a:custGeom>
            <a:avLst/>
            <a:gdLst>
              <a:gd name="textAreaLeft" fmla="*/ 77760 w 1752480"/>
              <a:gd name="textAreaRight" fmla="*/ 1674720 w 1752480"/>
              <a:gd name="textAreaTop" fmla="*/ 77760 h 838440"/>
              <a:gd name="textAreaBottom" fmla="*/ 760680 h 838440"/>
            </a:gdLst>
            <a:ahLst/>
            <a:rect l="textAreaLeft" t="textAreaTop" r="textAreaRight" b="textAreaBottom"/>
            <a:pathLst>
              <a:path w="45138" h="21600">
                <a:moveTo>
                  <a:pt x="0" y="0"/>
                </a:moveTo>
                <a:lnTo>
                  <a:pt x="45138" y="0"/>
                </a:lnTo>
                <a:lnTo>
                  <a:pt x="45138" y="21600"/>
                </a:lnTo>
                <a:lnTo>
                  <a:pt x="0" y="21600"/>
                </a:lnTo>
                <a:close/>
              </a:path>
              <a:path fill="lightenLess" w="45138" h="21600">
                <a:moveTo>
                  <a:pt x="0" y="0"/>
                </a:moveTo>
                <a:lnTo>
                  <a:pt x="45138" y="0"/>
                </a:lnTo>
                <a:lnTo>
                  <a:pt x="43133" y="2005"/>
                </a:lnTo>
                <a:lnTo>
                  <a:pt x="2005" y="2005"/>
                </a:lnTo>
                <a:close/>
              </a:path>
              <a:path fill="darken" w="45138" h="21600">
                <a:moveTo>
                  <a:pt x="45138" y="0"/>
                </a:moveTo>
                <a:lnTo>
                  <a:pt x="45138" y="21600"/>
                </a:lnTo>
                <a:lnTo>
                  <a:pt x="43133" y="19595"/>
                </a:lnTo>
                <a:lnTo>
                  <a:pt x="43133" y="2005"/>
                </a:lnTo>
                <a:close/>
              </a:path>
              <a:path fill="darkenLess" w="45138" h="21600">
                <a:moveTo>
                  <a:pt x="45138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43133" y="19595"/>
                </a:lnTo>
                <a:close/>
              </a:path>
              <a:path fill="lighten" w="45138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bf0002">
                  <a:alpha val="75294"/>
                </a:srgbClr>
              </a:gs>
              <a:gs pos="100000">
                <a:srgbClr val="580000">
                  <a:alpha val="7529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1143000"/>
            <a:ext cx="1523880" cy="685800"/>
          </a:xfrm>
          <a:custGeom>
            <a:avLst/>
            <a:gdLst>
              <a:gd name="textAreaLeft" fmla="*/ 68040 w 1523880"/>
              <a:gd name="textAreaRight" fmla="*/ 1455840 w 1523880"/>
              <a:gd name="textAreaTop" fmla="*/ 68040 h 685800"/>
              <a:gd name="textAreaBottom" fmla="*/ 61776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5832" y="2150"/>
                </a:lnTo>
                <a:lnTo>
                  <a:pt x="2150" y="215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5832" y="19450"/>
                </a:lnTo>
                <a:lnTo>
                  <a:pt x="45832" y="215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45832" y="1945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bf1bb2">
                  <a:alpha val="75294"/>
                </a:srgbClr>
              </a:gs>
              <a:gs pos="100000">
                <a:srgbClr val="580c52">
                  <a:alpha val="7529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h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638680" y="2819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x=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2895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x=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50292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x=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3930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x=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5029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x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886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x=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enthesis Answe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914400"/>
            <a:ext cx="2361960" cy="609480"/>
          </a:xfrm>
          <a:custGeom>
            <a:avLst/>
            <a:gdLst>
              <a:gd name="textAreaLeft" fmla="*/ 61920 w 2361960"/>
              <a:gd name="textAreaRight" fmla="*/ 2300040 w 2361960"/>
              <a:gd name="textAreaTop" fmla="*/ 61920 h 609480"/>
              <a:gd name="textAreaBottom" fmla="*/ 547560 h 609480"/>
            </a:gdLst>
            <a:ahLst/>
            <a:rect l="textAreaLeft" t="textAreaTop" r="textAreaRight" b="textAreaBottom"/>
            <a:pathLst>
              <a:path w="83671" h="21600">
                <a:moveTo>
                  <a:pt x="0" y="0"/>
                </a:moveTo>
                <a:lnTo>
                  <a:pt x="83671" y="0"/>
                </a:lnTo>
                <a:lnTo>
                  <a:pt x="83671" y="21600"/>
                </a:lnTo>
                <a:lnTo>
                  <a:pt x="0" y="21600"/>
                </a:lnTo>
                <a:close/>
              </a:path>
              <a:path fill="lightenLess" w="83671" h="21600">
                <a:moveTo>
                  <a:pt x="0" y="0"/>
                </a:moveTo>
                <a:lnTo>
                  <a:pt x="83671" y="0"/>
                </a:lnTo>
                <a:lnTo>
                  <a:pt x="81477" y="2194"/>
                </a:lnTo>
                <a:lnTo>
                  <a:pt x="2194" y="2194"/>
                </a:lnTo>
                <a:close/>
              </a:path>
              <a:path fill="darken" w="83671" h="21600">
                <a:moveTo>
                  <a:pt x="83671" y="0"/>
                </a:moveTo>
                <a:lnTo>
                  <a:pt x="83671" y="21600"/>
                </a:lnTo>
                <a:lnTo>
                  <a:pt x="81477" y="19406"/>
                </a:lnTo>
                <a:lnTo>
                  <a:pt x="81477" y="2194"/>
                </a:lnTo>
                <a:close/>
              </a:path>
              <a:path fill="darkenLess" w="83671" h="21600">
                <a:moveTo>
                  <a:pt x="83671" y="21600"/>
                </a:moveTo>
                <a:lnTo>
                  <a:pt x="0" y="21600"/>
                </a:lnTo>
                <a:lnTo>
                  <a:pt x="2194" y="19406"/>
                </a:lnTo>
                <a:lnTo>
                  <a:pt x="81477" y="19406"/>
                </a:lnTo>
                <a:close/>
              </a:path>
              <a:path fill="lighten" w="83671" h="21600">
                <a:moveTo>
                  <a:pt x="0" y="21600"/>
                </a:moveTo>
                <a:lnTo>
                  <a:pt x="0" y="0"/>
                </a:lnTo>
                <a:lnTo>
                  <a:pt x="2194" y="2194"/>
                </a:lnTo>
                <a:lnTo>
                  <a:pt x="2194" y="194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5294"/>
                </a:srgbClr>
              </a:gs>
              <a:gs pos="50000">
                <a:srgbClr val="757575">
                  <a:alpha val="75294"/>
                </a:srgbClr>
              </a:gs>
              <a:gs pos="100000">
                <a:srgbClr val="fffff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Parenthes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990720"/>
            <a:ext cx="1523880" cy="685800"/>
          </a:xfrm>
          <a:custGeom>
            <a:avLst/>
            <a:gdLst>
              <a:gd name="textAreaLeft" fmla="*/ 60120 w 1523880"/>
              <a:gd name="textAreaRight" fmla="*/ 1463760 w 1523880"/>
              <a:gd name="textAreaTop" fmla="*/ 60120 h 685800"/>
              <a:gd name="textAreaBottom" fmla="*/ 62568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082" y="1900"/>
                </a:lnTo>
                <a:lnTo>
                  <a:pt x="1900" y="190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082" y="19700"/>
                </a:lnTo>
                <a:lnTo>
                  <a:pt x="46082" y="190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900" y="19700"/>
                </a:lnTo>
                <a:lnTo>
                  <a:pt x="46082" y="1970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900" y="1900"/>
                </a:lnTo>
                <a:lnTo>
                  <a:pt x="1900" y="19700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8:42:36Z</dcterms:created>
  <dc:creator>Northmont City Schools</dc:creator>
  <dc:description/>
  <dc:language>en-US</dc:language>
  <cp:lastModifiedBy>Northmont City Schools</cp:lastModifiedBy>
  <dcterms:modified xsi:type="dcterms:W3CDTF">2010-03-26T16:33:48Z</dcterms:modified>
  <cp:revision>15</cp:revision>
  <dc:subject/>
  <dc:title>Algebra Equations</dc:title>
</cp:coreProperties>
</file>